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wmf" ContentType="image/x-wmf"/>
  <Override PartName="/ppt/media/image23.png" ContentType="image/png"/>
  <Override PartName="/ppt/media/image6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33.png" ContentType="image/png"/>
  <Override PartName="/ppt/media/image13.png" ContentType="image/png"/>
  <Override PartName="/ppt/media/image9.png" ContentType="image/png"/>
  <Override PartName="/ppt/media/image28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wmf" ContentType="image/x-wmf"/>
  <Override PartName="/ppt/media/image26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32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9AE7-4937-4033-B3CD-AB3BC6F66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96AB-2B43-4289-AB01-57B7BD321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8AC0-F9DC-4DFD-A23E-0026DBC3D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73A3-D3AC-429A-AC17-2E160FCA6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5C20-1D24-4A8A-BFB9-B1368D409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CF01-1204-4030-87F6-7C6EBAA17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D22D-4955-42D2-B642-23BAEBCBD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9BFC-8DD7-477F-A3C3-0369E28BA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17AC-0BC6-4DAD-9931-5C52A4C84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C7B3-2718-43DC-9BB6-C9ADB81B6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EAE8-2C51-4F73-B24A-CA8AE3428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EDC2-77DB-41E9-BE80-A0CB66EB8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F717-5630-47A1-A8D4-DA06FDEBB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89BD-C557-4555-A909-0DC4BE664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0F59-89F8-4480-A3C0-1426D7A02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5E8-9409-4B6B-8A59-16BAEE62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447-24B2-4776-9761-E38F82F3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697-40AF-4723-AD9C-89E270CC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1CC-F4A5-4B24-89CE-6814BC12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860-90E1-491C-A180-6C15E92F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B8B-7402-489D-A85F-FBB7650D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A1A-C811-4458-BD77-5E6BB4D9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946-200F-4A26-8BC2-A6694765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422-4563-46AF-9CF0-E71D7B48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13E-98C3-446B-9C08-FB57E009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65D-E44F-4C2D-AF94-8D276A49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D1B-2BF8-4FFA-ADF3-ADFB8F7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7CF5-A780-4004-8E56-233AFBCE84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8" descr=""/>
          <p:cNvPicPr/>
          <p:nvPr/>
        </p:nvPicPr>
        <p:blipFill>
          <a:blip r:embed="rId1"/>
          <a:stretch/>
        </p:blipFill>
        <p:spPr>
          <a:xfrm>
            <a:off x="1652760" y="2176560"/>
            <a:ext cx="572904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Rich\Documents\eslkidsworld.com\clip art\Food &amp; Drink\Fruits (A - B)\Apple 47.wmf"/>
          <p:cNvPicPr/>
          <p:nvPr/>
        </p:nvPicPr>
        <p:blipFill>
          <a:blip r:embed="rId2"/>
          <a:stretch/>
        </p:blipFill>
        <p:spPr>
          <a:xfrm>
            <a:off x="406440" y="339840"/>
            <a:ext cx="1879560" cy="214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Users\Rich\Documents\eslkidsworld.com\clip art\Food &amp; Drink\Fruits (A - B)\Banana 03.wmf"/>
          <p:cNvPicPr/>
          <p:nvPr/>
        </p:nvPicPr>
        <p:blipFill>
          <a:blip r:embed="rId3"/>
          <a:stretch/>
        </p:blipFill>
        <p:spPr>
          <a:xfrm rot="2044200">
            <a:off x="6262200" y="756720"/>
            <a:ext cx="241956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6880320" y="4522680"/>
            <a:ext cx="1805040" cy="203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Users\Rich\Documents\eslkidsworld.com\clip art\Food &amp; Drink\Fruits (C - I)\Grapes 19.wmf"/>
          <p:cNvPicPr/>
          <p:nvPr/>
        </p:nvPicPr>
        <p:blipFill>
          <a:blip r:embed="rId5"/>
          <a:stretch/>
        </p:blipFill>
        <p:spPr>
          <a:xfrm>
            <a:off x="174600" y="4327560"/>
            <a:ext cx="21574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9" descr=""/>
          <p:cNvPicPr/>
          <p:nvPr/>
        </p:nvPicPr>
        <p:blipFill>
          <a:blip r:embed="rId1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9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Rich\Documents\eslkidsworld.com\clip art\Food &amp; Drink\Fruits (J - Pe)\Orange 19.wmf"/>
          <p:cNvPicPr/>
          <p:nvPr/>
        </p:nvPicPr>
        <p:blipFill>
          <a:blip r:embed="rId4"/>
          <a:stretch/>
        </p:blipFill>
        <p:spPr>
          <a:xfrm>
            <a:off x="3498840" y="1609560"/>
            <a:ext cx="4754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9" descr=""/>
          <p:cNvPicPr/>
          <p:nvPr/>
        </p:nvPicPr>
        <p:blipFill>
          <a:blip r:embed="rId1"/>
          <a:stretch/>
        </p:blipFill>
        <p:spPr>
          <a:xfrm>
            <a:off x="2743200" y="4041720"/>
            <a:ext cx="5924520" cy="257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3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Rich\Documents\eslkidsworld.com\clip art\Food &amp; Drink\Fruits (J - Pe)\Peaches 02.wmf"/>
          <p:cNvPicPr/>
          <p:nvPr/>
        </p:nvPicPr>
        <p:blipFill>
          <a:blip r:embed="rId4"/>
          <a:stretch/>
        </p:blipFill>
        <p:spPr>
          <a:xfrm>
            <a:off x="3855960" y="1471680"/>
            <a:ext cx="34354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9" descr=""/>
          <p:cNvPicPr/>
          <p:nvPr/>
        </p:nvPicPr>
        <p:blipFill>
          <a:blip r:embed="rId1"/>
          <a:stretch/>
        </p:blipFill>
        <p:spPr>
          <a:xfrm>
            <a:off x="1762200" y="4041720"/>
            <a:ext cx="7388280" cy="2578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7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Rich\Documents\eslkidsworld.com\clip art\Food &amp; Drink\Fruits (J - Pe)\Pear 35.wmf"/>
          <p:cNvPicPr/>
          <p:nvPr/>
        </p:nvPicPr>
        <p:blipFill>
          <a:blip r:embed="rId4"/>
          <a:stretch/>
        </p:blipFill>
        <p:spPr>
          <a:xfrm>
            <a:off x="4149720" y="1473120"/>
            <a:ext cx="3446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9" descr=""/>
          <p:cNvPicPr/>
          <p:nvPr/>
        </p:nvPicPr>
        <p:blipFill>
          <a:blip r:embed="rId1"/>
          <a:stretch/>
        </p:blipFill>
        <p:spPr>
          <a:xfrm>
            <a:off x="1219320" y="4059360"/>
            <a:ext cx="8315280" cy="237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1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Rich\Documents\eslkidsworld.com\clip art\Food &amp; Drink\Fruits (Pi - Z)\Pineapple 22.wmf"/>
          <p:cNvPicPr/>
          <p:nvPr/>
        </p:nvPicPr>
        <p:blipFill>
          <a:blip r:embed="rId4"/>
          <a:stretch/>
        </p:blipFill>
        <p:spPr>
          <a:xfrm rot="3982800">
            <a:off x="4686840" y="907200"/>
            <a:ext cx="1966680" cy="4133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1500120" y="605952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9" descr=""/>
          <p:cNvPicPr/>
          <p:nvPr/>
        </p:nvPicPr>
        <p:blipFill>
          <a:blip r:embed="rId1"/>
          <a:stretch/>
        </p:blipFill>
        <p:spPr>
          <a:xfrm>
            <a:off x="1700280" y="4102200"/>
            <a:ext cx="7705800" cy="19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6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Rich\Documents\eslkidsworld.com\clip art\Food &amp; Drink\Fruits (Pi - Z)\Watermelon 35.wmf"/>
          <p:cNvPicPr/>
          <p:nvPr/>
        </p:nvPicPr>
        <p:blipFill>
          <a:blip r:embed="rId4"/>
          <a:stretch/>
        </p:blipFill>
        <p:spPr>
          <a:xfrm>
            <a:off x="3162240" y="1673280"/>
            <a:ext cx="4672080" cy="2854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6729480" y="488952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415800" y="347760"/>
            <a:ext cx="79948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4" descr=""/>
          <p:cNvPicPr/>
          <p:nvPr/>
        </p:nvPicPr>
        <p:blipFill>
          <a:blip r:embed="rId1"/>
          <a:stretch/>
        </p:blipFill>
        <p:spPr>
          <a:xfrm>
            <a:off x="1768320" y="2798640"/>
            <a:ext cx="54802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Rich\Documents\eslkidsworld.com\clip art\Food &amp; Drink\Fruits (A - B)\Apple 47.wmf"/>
          <p:cNvPicPr/>
          <p:nvPr/>
        </p:nvPicPr>
        <p:blipFill>
          <a:blip r:embed="rId3"/>
          <a:stretch/>
        </p:blipFill>
        <p:spPr>
          <a:xfrm>
            <a:off x="4011480" y="1611360"/>
            <a:ext cx="3095640" cy="261468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9" descr=""/>
          <p:cNvPicPr/>
          <p:nvPr/>
        </p:nvPicPr>
        <p:blipFill>
          <a:blip r:embed="rId4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8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9" descr=""/>
          <p:cNvPicPr/>
          <p:nvPr/>
        </p:nvPicPr>
        <p:blipFill>
          <a:blip r:embed="rId3"/>
          <a:stretch/>
        </p:blipFill>
        <p:spPr>
          <a:xfrm>
            <a:off x="2139840" y="4041720"/>
            <a:ext cx="6838920" cy="257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Rich\Documents\eslkidsworld.com\clip art\Food &amp; Drink\Fruits (A - B)\Banana 03.wmf"/>
          <p:cNvPicPr/>
          <p:nvPr/>
        </p:nvPicPr>
        <p:blipFill>
          <a:blip r:embed="rId4"/>
          <a:stretch/>
        </p:blipFill>
        <p:spPr>
          <a:xfrm rot="2044200">
            <a:off x="3836880" y="2172960"/>
            <a:ext cx="3259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2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3"/>
          <a:stretch/>
        </p:blipFill>
        <p:spPr>
          <a:xfrm>
            <a:off x="1474920" y="4041720"/>
            <a:ext cx="7950240" cy="257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Users\Rich\Documents\eslkidsworld.com\clip art\Food &amp; Drink\Fruits (C - I)\Grapes 19.wmf"/>
          <p:cNvPicPr/>
          <p:nvPr/>
        </p:nvPicPr>
        <p:blipFill>
          <a:blip r:embed="rId4"/>
          <a:stretch/>
        </p:blipFill>
        <p:spPr>
          <a:xfrm>
            <a:off x="2535120" y="1432080"/>
            <a:ext cx="59263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6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9" descr=""/>
          <p:cNvPicPr/>
          <p:nvPr/>
        </p:nvPicPr>
        <p:blipFill>
          <a:blip r:embed="rId3"/>
          <a:stretch/>
        </p:blipFill>
        <p:spPr>
          <a:xfrm>
            <a:off x="1700280" y="4041720"/>
            <a:ext cx="7450200" cy="257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3681360" y="1633680"/>
            <a:ext cx="35370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70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9" descr=""/>
          <p:cNvPicPr/>
          <p:nvPr/>
        </p:nvPicPr>
        <p:blipFill>
          <a:blip r:embed="rId3"/>
          <a:stretch/>
        </p:blipFill>
        <p:spPr>
          <a:xfrm>
            <a:off x="1676520" y="4041720"/>
            <a:ext cx="7546680" cy="257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Rich\Documents\eslkidsworld.com\clip art\Food &amp; Drink\Fruits (Pi - Z)\Strawberries 11.wmf"/>
          <p:cNvPicPr/>
          <p:nvPr/>
        </p:nvPicPr>
        <p:blipFill>
          <a:blip r:embed="rId4"/>
          <a:stretch/>
        </p:blipFill>
        <p:spPr>
          <a:xfrm>
            <a:off x="3868560" y="1560600"/>
            <a:ext cx="32054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3"/>
          <a:stretch/>
        </p:blipFill>
        <p:spPr>
          <a:xfrm>
            <a:off x="1341360" y="4041720"/>
            <a:ext cx="8253360" cy="257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Rich\Documents\eslkidsworld.com\clip art\Food &amp; Drink\Fruits (J - Pe)\Kiwis.wmf"/>
          <p:cNvPicPr/>
          <p:nvPr/>
        </p:nvPicPr>
        <p:blipFill>
          <a:blip r:embed="rId4"/>
          <a:stretch/>
        </p:blipFill>
        <p:spPr>
          <a:xfrm>
            <a:off x="3475080" y="1606680"/>
            <a:ext cx="3913200" cy="28224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4290840" y="512136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9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9" descr=""/>
          <p:cNvPicPr/>
          <p:nvPr/>
        </p:nvPicPr>
        <p:blipFill>
          <a:blip r:embed="rId3"/>
          <a:stretch/>
        </p:blipFill>
        <p:spPr>
          <a:xfrm>
            <a:off x="1932120" y="4041720"/>
            <a:ext cx="7218360" cy="257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Rich\Documents\eslkidsworld.com\clip art\Food &amp; Drink\Fruits (J - Pe)\Lemon 01.wmf"/>
          <p:cNvPicPr/>
          <p:nvPr/>
        </p:nvPicPr>
        <p:blipFill>
          <a:blip r:embed="rId4"/>
          <a:stretch/>
        </p:blipFill>
        <p:spPr>
          <a:xfrm>
            <a:off x="3454560" y="1601640"/>
            <a:ext cx="36288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9" descr=""/>
          <p:cNvPicPr/>
          <p:nvPr/>
        </p:nvPicPr>
        <p:blipFill>
          <a:blip r:embed="rId1"/>
          <a:stretch/>
        </p:blipFill>
        <p:spPr>
          <a:xfrm>
            <a:off x="2554200" y="4041720"/>
            <a:ext cx="6504120" cy="2578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4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Rich\Documents\eslkidsworld.com\clip art\Food &amp; Drink\Fruits (J - Pe)\Lime 07.wmf"/>
          <p:cNvPicPr/>
          <p:nvPr/>
        </p:nvPicPr>
        <p:blipFill>
          <a:blip r:embed="rId4"/>
          <a:stretch/>
        </p:blipFill>
        <p:spPr>
          <a:xfrm>
            <a:off x="3730680" y="1638360"/>
            <a:ext cx="4084560" cy="2489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5522760" y="514512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r.eash</dc:creator>
  <dc:description/>
  <dc:language>en-US</dc:language>
  <cp:lastModifiedBy>peter burrows</cp:lastModifiedBy>
  <dcterms:modified xsi:type="dcterms:W3CDTF">2017-04-26T04:24:04Z</dcterms:modified>
  <cp:revision>264</cp:revision>
  <dc:subject/>
  <dc:title>Slide 1</dc:title>
</cp:coreProperties>
</file>